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ABAF-B3B4-4059-AFE0-9519EE26E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6F18-463A-4610-A002-6D0DA536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2C1D-7E51-4C11-AA35-C1FBB5D7E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779B-92DD-4374-9487-346043DA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5436-07A0-4649-B98A-1A1F25A6B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A6FA-FC48-43D8-8EFF-E03F260E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22FE-29D5-4DE1-B72D-24AFF87C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891F-F1A3-4DBC-B572-694F666D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3DE1-7ADA-4235-AA81-7F7A132B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88F8-8FC9-45DB-84F3-FA3AFDDD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A941-233A-4735-876C-8D5B7871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DAE9-0811-485D-833E-E36596D6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5129-A84B-4C07-8686-4B2554FE0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152280"/>
            <a:ext cx="716256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Juice ITC"/>
              </a:rPr>
              <a:t>Commas and Pronouns</a:t>
            </a:r>
            <a:endParaRPr b="1" lang="en-US" sz="5400" spc="1" strike="noStrike">
              <a:ln w="15840">
                <a:solidFill>
                  <a:srgbClr val="000000"/>
                </a:solidFill>
                <a:miter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Juice ITC"/>
              <a:ea typeface="Juice ITC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90720" y="1752480"/>
            <a:ext cx="6858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Juice ITC"/>
              </a:rPr>
              <a:t>By:  Ashley, Camille, Frannie, Spencer</a:t>
            </a:r>
            <a:endParaRPr b="1" lang="en-US" sz="4400" spc="1" strike="noStrike">
              <a:ln w="19080">
                <a:solidFill>
                  <a:srgbClr val="000000"/>
                </a:solidFill>
                <a:miter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Juice ITC"/>
              <a:ea typeface="Juice ITC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038480" y="3200400"/>
            <a:ext cx="852480" cy="10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000000"/>
                  </a:solidFill>
                  <a:miter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Juice ITC"/>
              </a:rPr>
              <a:t>5th</a:t>
            </a:r>
            <a:endParaRPr b="1" lang="en-US" sz="4800" spc="1" strike="noStrike">
              <a:ln w="15840">
                <a:solidFill>
                  <a:srgbClr val="000000"/>
                </a:solidFill>
                <a:miter/>
              </a:ln>
              <a:solidFill>
                <a:srgbClr val="00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Juice ITC"/>
              <a:ea typeface="Juice IT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fornian FB"/>
              </a:rPr>
              <a:t>Answer to Example Thre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fornian FB"/>
              </a:rPr>
              <a:t>Amy and I put a videocassette and a fashion catalog in the time capsu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Californian FB"/>
              </a:rPr>
              <a:t>Pronoun Rule O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895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alifornian FB"/>
              </a:rPr>
              <a:t>A pronoun should agree with its antecedent in number and in gend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Californian FB"/>
              </a:rPr>
              <a:t>Example O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alifornian FB"/>
              </a:rPr>
              <a:t>Rudolfo stated his position clearl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alifornian FB"/>
              </a:rPr>
              <a:t>Maxine has already prepared her acceptance speec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alifornian FB"/>
              </a:rPr>
              <a:t>The river overflowed its bank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alifornian FB"/>
              </a:rPr>
              <a:t>Pronoun Rule Tw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alifornian FB"/>
              </a:rPr>
              <a:t>Singular pronouns are used to refer to the following antecedents:  anybody, anyone, anything, each, either, everybody, everyone, everything, neither, nobody, no one, nothing, one, somebody, someone, and something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Californian FB"/>
              </a:rPr>
              <a:t>Example Tw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alifornian FB"/>
              </a:rPr>
              <a:t>Fix the pronouns that need to be corrected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66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alifornian FB"/>
              </a:rPr>
              <a:t>No one failed the pop quiz because he or she has done his or her homewor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Californian FB"/>
              </a:rPr>
              <a:t>Answer to Example Tw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alifornian FB"/>
              </a:rPr>
              <a:t>Since no one is clearly plural in meaning, the singular pronouns, though grammatically correct, are awkwar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66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alifornian FB"/>
              </a:rPr>
              <a:t>Use no one, they, and the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335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Bodoni MT Black"/>
              </a:rPr>
              <a:t>GOOD LUCK ON THE TEST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fornian FB"/>
              </a:rPr>
              <a:t>Comma Rule On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fornian FB"/>
              </a:rPr>
              <a:t>Use a comma before </a:t>
            </a:r>
            <a:r>
              <a:rPr b="1" i="1" lang="en-US" sz="4000" spc="-1" strike="noStrike">
                <a:solidFill>
                  <a:srgbClr val="ffffff"/>
                </a:solidFill>
                <a:latin typeface="Californian FB"/>
              </a:rPr>
              <a:t>and, but, or, nor, for, so, and yet</a:t>
            </a:r>
            <a:r>
              <a:rPr b="1" lang="en-US" sz="4000" spc="-1" strike="noStrike">
                <a:solidFill>
                  <a:srgbClr val="ffffff"/>
                </a:solidFill>
                <a:latin typeface="Californian FB"/>
              </a:rPr>
              <a:t> when they join independent clau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fornian FB"/>
              </a:rPr>
              <a:t>Example One</a:t>
            </a:r>
            <a:r>
              <a:rPr b="1" lang="en-US" sz="5400" spc="-1" strike="noStrike">
                <a:solidFill>
                  <a:srgbClr val="ffffff"/>
                </a:solidFill>
                <a:latin typeface="Californian FB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fornian FB"/>
              </a:rPr>
              <a:t>Choose which one of these sentences needs a comma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fornian FB"/>
              </a:rPr>
              <a:t>Ashley and I looked everywhere for the sheet music but we couldn’t find i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fornian FB"/>
              </a:rPr>
              <a:t>Ashley and I looked everywhere for the sheet music but couldn’t find it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fornian FB"/>
              </a:rPr>
              <a:t>Answer to Example One</a:t>
            </a:r>
            <a:r>
              <a:rPr b="1" lang="en-US" sz="5400" spc="-1" strike="noStrike">
                <a:solidFill>
                  <a:srgbClr val="ffffff"/>
                </a:solidFill>
                <a:latin typeface="Californian FB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alifornian FB"/>
              </a:rPr>
              <a:t>The sentence that needs the comma is sentence one.  This is because it contains two independent clauses, and the second sentence contains one independent clause with a compound verb.  Make sure that the two phrases that you are joining with a comma can stand alon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fornian FB"/>
              </a:rPr>
              <a:t>Comma Rule Two</a:t>
            </a:r>
            <a:r>
              <a:rPr b="1" lang="en-US" sz="5400" spc="-1" strike="noStrike">
                <a:solidFill>
                  <a:srgbClr val="ffffff"/>
                </a:solidFill>
                <a:latin typeface="Californian FB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fornian FB"/>
              </a:rPr>
              <a:t>Use commas to set off nonessential clauses and nonessential participial phrase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fornian FB"/>
              </a:rPr>
              <a:t>Example Tw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fornian FB"/>
              </a:rPr>
              <a:t>Place a comma where needed in these next two sentences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Californian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fornian FB"/>
              </a:rPr>
              <a:t>Employee who always have a ready smile make the job seem easi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Californian FB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fornian FB"/>
              </a:rPr>
              <a:t>The Suez Canal extending more than a hundred miles link the Mediterranean Sea and the Red Se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fornian FB"/>
              </a:rPr>
              <a:t>Answer to Example Tw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fornian FB"/>
              </a:rPr>
              <a:t>Sentence one doesn’t need any commas!  They are nonessential.  It contains information that is necessary to the meaning of the sentenc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fornian FB"/>
              </a:rPr>
              <a:t>Sentence two needs a comma after canal and mile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fornian FB"/>
              </a:rPr>
              <a:t>Comma Rule Thre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fornian FB"/>
              </a:rPr>
              <a:t>Do not use unnecessary comm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fornian FB"/>
              </a:rPr>
              <a:t>Example Thre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fornian FB"/>
              </a:rPr>
              <a:t>Correct this sentence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Californian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alifornian FB"/>
              </a:rPr>
              <a:t>Amy, and I put a videocassette, and a fashion catalog in the time capsu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9T17:16:00Z</dcterms:created>
  <dc:creator>User</dc:creator>
  <dc:description/>
  <dc:language>en-US</dc:language>
  <cp:lastModifiedBy>User</cp:lastModifiedBy>
  <dcterms:modified xsi:type="dcterms:W3CDTF">2006-10-10T17:28:23Z</dcterms:modified>
  <cp:revision>3</cp:revision>
  <dc:subject/>
  <dc:title>Slide 1</dc:title>
</cp:coreProperties>
</file>